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explode.wav" ContentType="audio/x-wav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9B7-2A7D-4F4F-8238-34039009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343-8291-45A8-9107-BF7BC511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C51-1CCA-44DE-B811-2D872CD6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4B4-2681-424B-8574-7FFC5523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4DD9-56BB-453E-81D9-60196A78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CDA9-B4B1-431F-ABF8-793283E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462E-1033-425D-BDCA-A74A0531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5011-FD12-42A1-BA71-2F7D4D4B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2CC6-95C8-4599-9BF4-BD10F756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895C-8DC4-4E98-8310-427BEE25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845C-7AD5-4BC7-91A3-94AF2DA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EB7-2B6B-4FB0-A5F3-84F8A8A8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209D-3926-462A-BF08-B34C2FE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390E-F0BE-408D-B5F5-B1FF991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DA18-9925-4488-B784-DFF061E5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5342-E96B-47E4-A2F3-F8B34E54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6335-87BE-4F23-9EA1-1A49F941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9F6-AF2E-4438-9C3D-01FD47E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FC2-09FB-43FA-8631-140A949F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329-9F3B-4BA3-9DA6-B27D50E5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9E0-04F2-4DD7-99C6-35C4EC01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7BC-FEB7-4D04-B523-821C6FE5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4A7-6380-4432-A946-BF8DD12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6AE-13E8-4788-847B-B7E18011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CB3-C38C-4323-AE39-CF9B86C51C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45C5-D415-420B-8C25-9629B4E302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標楷體"/>
                <a:ea typeface="標楷體"/>
              </a:rPr>
              <a:t>安心講座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標楷體"/>
                <a:ea typeface="標楷體"/>
              </a:rPr>
              <a:t>-</a:t>
            </a: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關於</a:t>
            </a:r>
            <a:r>
              <a:rPr b="1" lang="en-US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0206</a:t>
            </a: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地震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臺南市教育局學生輔導諮商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0000"/>
                </a:solidFill>
                <a:latin typeface="Arial"/>
                <a:ea typeface="標楷體"/>
              </a:rPr>
              <a:t>創傷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後</a:t>
            </a: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壓力反應</a:t>
            </a:r>
            <a:br>
              <a:rPr sz="40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ost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umatic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Stress 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Reactions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, PTSR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330066"/>
                </a:solidFill>
                <a:latin typeface="Arial"/>
              </a:rPr>
              <a:t>（黃龍杰編譯）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經驗重現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“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觸景傷情”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心驚的畫面歷歷在目，不斷浮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聲音或氣味揮之不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被惡夢糾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自覺「掉回過去」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flashback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，情緒或行動反應強烈，如身歷其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被人、事、物、時、地勾起回憶，觸景傷情，睹物思人，身心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PE02567_"/>
          <p:cNvPicPr/>
          <p:nvPr/>
        </p:nvPicPr>
        <p:blipFill>
          <a:blip r:embed="rId1"/>
          <a:stretch/>
        </p:blipFill>
        <p:spPr>
          <a:xfrm>
            <a:off x="6588000" y="2492280"/>
            <a:ext cx="15987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0000"/>
                </a:solidFill>
                <a:latin typeface="Arial"/>
                <a:ea typeface="標楷體"/>
              </a:rPr>
              <a:t>創傷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後</a:t>
            </a: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壓力反應</a:t>
            </a:r>
            <a:br>
              <a:rPr sz="40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ost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umatic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Stress 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Reactions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, PTSR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330066"/>
                </a:solidFill>
                <a:latin typeface="Arial"/>
              </a:rPr>
              <a:t>（黃龍杰編譯）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逃避或麻痺 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“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退避三舍”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對於和那件悲劇相關的人、事、時、地、物敬而遠之，退避三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往事不堪回首，故意避而不談，甚至想搬家轉行，遠離傷心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創痛太深的部份，選擇遺忘，甚至失去記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對外界活動漠不關心，失去興趣，不願參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自我封閉，疏離他人，社交退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壓抑情感，甚至變得麻木不仁，無喜無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對未來悲觀絕望，感覺「物是人非事事休」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2567_"/>
          <p:cNvPicPr/>
          <p:nvPr/>
        </p:nvPicPr>
        <p:blipFill>
          <a:blip r:embed="rId1"/>
          <a:stretch/>
        </p:blipFill>
        <p:spPr>
          <a:xfrm>
            <a:off x="7086600" y="4495680"/>
            <a:ext cx="15987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0000"/>
                </a:solidFill>
                <a:latin typeface="Arial"/>
                <a:ea typeface="標楷體"/>
              </a:rPr>
              <a:t>創傷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後</a:t>
            </a: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壓力反應</a:t>
            </a:r>
            <a:br>
              <a:rPr sz="40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ost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umatic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Stress 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Reactions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, PTSR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330066"/>
                </a:solidFill>
                <a:latin typeface="Arial"/>
              </a:rPr>
              <a:t>（黃龍杰編譯）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焦慮或過度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警覺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“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神經緊繃”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輾轉反側，難以入眠或熟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暴躁易怒，大發雷霆，甚至發生衝突或暴力事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無法專注，心不在焉，神不守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如臨深淵，如履薄冰；風聲鶴唳，草木皆兵；心神不寧，坐立不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如驚弓之鳥，膽戰心驚，容易嚇一大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人心惶惶，議論紛紛，生怕動輒得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PE02567_"/>
          <p:cNvPicPr/>
          <p:nvPr/>
        </p:nvPicPr>
        <p:blipFill>
          <a:blip r:embed="rId1"/>
          <a:stretch/>
        </p:blipFill>
        <p:spPr>
          <a:xfrm>
            <a:off x="7238880" y="1447920"/>
            <a:ext cx="159876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從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「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  <a:ea typeface="標楷體"/>
              </a:rPr>
              <a:t>正常反應</a:t>
            </a:r>
            <a:r>
              <a:rPr b="1" lang="zh-TW" sz="4000" spc="-1" strike="noStrike">
                <a:solidFill>
                  <a:srgbClr val="0000ff"/>
                </a:solidFill>
                <a:latin typeface="Arial"/>
              </a:rPr>
              <a:t>」</a:t>
            </a: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到</a:t>
            </a:r>
            <a:r>
              <a:rPr b="1" lang="zh-TW" sz="2400" spc="-1" strike="noStrike">
                <a:solidFill>
                  <a:srgbClr val="cc0000"/>
                </a:solidFill>
                <a:latin typeface="Arial"/>
                <a:ea typeface="華康儷楷書"/>
              </a:rPr>
              <a:t>「高關懷群」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標楷體"/>
              </a:rPr>
              <a:t>十之八九的人，在事過境遷</a:t>
            </a:r>
            <a:r>
              <a:rPr b="0" lang="zh-TW" sz="2800" spc="-1" strike="noStrike" u="sng">
                <a:solidFill>
                  <a:srgbClr val="6600cc"/>
                </a:solidFill>
                <a:uFillTx/>
                <a:latin typeface="Arial"/>
                <a:ea typeface="標楷體"/>
              </a:rPr>
              <a:t>幾天到幾週內</a:t>
            </a: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標楷體"/>
              </a:rPr>
              <a:t>，會漸漸恢復正常，不至於影響工作和社交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不過，也可能有十之一二的人，事後留下後遺症，影響生活好幾個月，甚至好幾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儷楷書"/>
                <a:ea typeface="華康儷楷書"/>
              </a:rPr>
              <a:t>這些「高風險群」或「高關懷群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儷楷書"/>
                <a:ea typeface="華康儷楷書"/>
              </a:rPr>
              <a:t>較可能衍生、失眠症、焦慮症、憂鬱症、酗酒或濫用藥物，影響工作和家庭生活，甚至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儷楷書"/>
              </a:rPr>
              <a:t>發生意外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華康儷楷書"/>
              </a:rPr>
              <a:t>或</a:t>
            </a:r>
            <a:r>
              <a:rPr b="0" lang="zh-TW" sz="2400" spc="-1" strike="noStrike">
                <a:solidFill>
                  <a:srgbClr val="000000"/>
                </a:solidFill>
                <a:latin typeface="華康儷楷書"/>
                <a:ea typeface="華康儷楷書"/>
              </a:rPr>
              <a:t>想不開走上絕路</a:t>
            </a:r>
            <a:r>
              <a:rPr b="0" lang="zh-TW" sz="2000" spc="-1" strike="noStrike">
                <a:solidFill>
                  <a:srgbClr val="000000"/>
                </a:solidFill>
                <a:latin typeface="華康儷楷書"/>
                <a:ea typeface="華康儷楷書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華康儷楷書"/>
                <a:ea typeface="華康儷楷書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PE04030_"/>
          <p:cNvPicPr/>
          <p:nvPr/>
        </p:nvPicPr>
        <p:blipFill>
          <a:blip r:embed="rId1"/>
          <a:stretch/>
        </p:blipFill>
        <p:spPr>
          <a:xfrm>
            <a:off x="6948360" y="4508640"/>
            <a:ext cx="11257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你可以做些什麼</a:t>
            </a:r>
            <a:r>
              <a:rPr b="1" lang="zh-TW" sz="4000" spc="-1" strike="noStrike" u="sng">
                <a:solidFill>
                  <a:srgbClr val="330066"/>
                </a:solidFill>
                <a:uFillTx/>
                <a:latin typeface="標楷體"/>
                <a:ea typeface="標楷體"/>
              </a:rPr>
              <a:t>幫助自己</a:t>
            </a: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安心五寶：「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信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、運、同、轉」 （黃龍杰，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2008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「信」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＝信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6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做禮拜、望彌撒、禱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6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參加法會或禪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6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上寺廟燒香、拜拜、收驚、念經、求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你可以做些什麼</a:t>
            </a:r>
            <a:r>
              <a:rPr b="1" lang="zh-TW" sz="4000" spc="-1" strike="noStrike" u="sng">
                <a:solidFill>
                  <a:srgbClr val="330066"/>
                </a:solidFill>
                <a:uFillTx/>
                <a:latin typeface="標楷體"/>
                <a:ea typeface="標楷體"/>
              </a:rPr>
              <a:t>幫助自己</a:t>
            </a: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安心五寶：「信、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運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、同、轉」 （黃龍杰，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2008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「運」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＝運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從事有氧運動（打球、跑步、騎腳踏車），讓自己喘喘氣和流流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練氣功、打拳、瑜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穴道推拿、刮痧、腳底按摩、芳香療法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把壓力賀爾蒙排出體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你可以做些什麼</a:t>
            </a:r>
            <a:r>
              <a:rPr b="1" lang="zh-TW" sz="4000" spc="-1" strike="noStrike" u="sng">
                <a:solidFill>
                  <a:srgbClr val="330066"/>
                </a:solidFill>
                <a:uFillTx/>
                <a:latin typeface="標楷體"/>
                <a:ea typeface="標楷體"/>
              </a:rPr>
              <a:t>幫助自己</a:t>
            </a: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安心五寶：「信、運、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同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、轉」 （黃龍杰，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2008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「同」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＝同伴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尋找志同道合，有難「同」當的人（家人、朋友、同學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發現自己不是唯一最苦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不要離群索居，封閉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找人聊聊有紓解和整理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你可以做些什麼幫助自己</a:t>
            </a: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安心五寶：「信、運、同、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轉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」 （黃龍杰，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2008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「轉」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＝轉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轉移注意，轉換心境，走出去接觸大自然、或看電影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投入興趣或娛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找些幫助別人的事情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暫時把煩惱放下，避免鑽牛角尖，越陷越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你可以做些甚麼</a:t>
            </a:r>
            <a:r>
              <a:rPr b="1" lang="zh-TW" sz="4000" spc="-1" strike="noStrike" u="sng">
                <a:solidFill>
                  <a:srgbClr val="330066"/>
                </a:solidFill>
                <a:uFillTx/>
                <a:latin typeface="標楷體"/>
                <a:ea typeface="標楷體"/>
              </a:rPr>
              <a:t>幫助身邊的人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觀察他們是否有什麼與過去不同的狀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與身邊較信任的好友互相支持、陪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必要時請求師長的協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你</a:t>
            </a: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不是一個人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需要幫忙時，不要害怕也不要質疑自己，就近找到你信任的大人、朋友一起協助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讓</a:t>
            </a:r>
            <a:r>
              <a:rPr b="0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我們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互相陪伴，一起度過這次的危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595959"/>
                </a:solidFill>
                <a:uFillTx/>
                <a:latin typeface="標楷體"/>
                <a:ea typeface="標楷體"/>
              </a:rPr>
              <a:t>如果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標楷體"/>
                <a:ea typeface="標楷體"/>
              </a:rPr>
              <a:t>一個月</a:t>
            </a:r>
            <a:r>
              <a:rPr b="0" lang="zh-TW" sz="3200" spc="-1" strike="noStrike" u="sng">
                <a:solidFill>
                  <a:srgbClr val="595959"/>
                </a:solidFill>
                <a:uFillTx/>
                <a:latin typeface="標楷體"/>
                <a:ea typeface="標楷體"/>
              </a:rPr>
              <a:t>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595959"/>
                </a:solidFill>
                <a:uFillTx/>
                <a:latin typeface="標楷體"/>
                <a:ea typeface="標楷體"/>
              </a:rPr>
              <a:t>這次的意外事件仍持續對你造成的干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595959"/>
                </a:solidFill>
                <a:uFillTx/>
                <a:latin typeface="標楷體"/>
                <a:ea typeface="標楷體"/>
              </a:rPr>
              <a:t>請務必與你的老師聯繫，尋求更專業的協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105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月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6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日凌晨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：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57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分，南部發生芮氏規模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6.4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大地震，釋放能量相當於</a:t>
            </a:r>
            <a:r>
              <a:rPr b="0" lang="en-US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2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顆原子彈。許多人在睡夢中驚醒，瞬間的天搖地動，造成部分房屋倒塌，與數百人傷亡</a:t>
            </a:r>
            <a:r>
              <a:rPr b="0" lang="en-US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你對這個事件的了解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地震當時你在做甚麼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? 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是在睡夢中或是醒著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地震發生後，你的反應以及接下來發生的事</a:t>
            </a:r>
            <a:r>
              <a:rPr b="0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地震發生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你是否有發生身體或心理上的不舒服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大地震後可能出現的</a:t>
            </a:r>
            <a:r>
              <a:rPr b="1" lang="zh-TW" sz="4000" spc="-1" strike="noStrike">
                <a:solidFill>
                  <a:srgbClr val="330066"/>
                </a:solidFill>
                <a:latin typeface="標楷體"/>
                <a:ea typeface="標楷體"/>
              </a:rPr>
              <a:t>壓力反應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【生理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疲累、無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吃不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睡不好（或一直睡）、做惡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頭痛、頭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胃不舒服、噁心想吐、拉肚子、便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胸悶（像壓著大石頭）、喘不過來、心跳加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全身緊繃、冒冷汗</a:t>
            </a:r>
            <a:r>
              <a:rPr b="0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0066"/>
                </a:solidFill>
                <a:latin typeface="標楷體"/>
                <a:ea typeface="標楷體"/>
              </a:rPr>
              <a:t>大地震後可能出現的</a:t>
            </a:r>
            <a:r>
              <a:rPr b="1" lang="zh-TW" sz="3600" spc="-1" strike="noStrike">
                <a:solidFill>
                  <a:srgbClr val="330066"/>
                </a:solidFill>
                <a:latin typeface="標楷體"/>
                <a:ea typeface="標楷體"/>
              </a:rPr>
              <a:t>壓力反應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【情緒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震驚、害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9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無法專心課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9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否認：不相信這是真的、認為是消息有誤…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9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生氣：氣相關的其他人…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9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憂鬱、沮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9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焦慮、緊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9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脾氣暴躁、猶豫不決、遺憾等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0066"/>
                </a:solidFill>
                <a:latin typeface="標楷體"/>
                <a:ea typeface="標楷體"/>
              </a:rPr>
              <a:t>大地震後可能出現的壓力反應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【認知】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畫面歷歷在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某種刺激的聲音或氣味揮之不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注意力不集中（「恍神」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不由自主的念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覺得沒有人可以依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想接受別人的幫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0066"/>
                </a:solidFill>
                <a:latin typeface="標楷體"/>
                <a:ea typeface="標楷體"/>
              </a:rPr>
              <a:t>大地震後可能出現的壓力反應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【行為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議論紛紛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或避而不談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掉淚、自責、指責別人（怨天尤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坐立不安、拼命做事、一直往外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特別黏人或特別想獨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常罵人、易發生衝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對聲音敏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不想上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注意力不集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0066"/>
                </a:solidFill>
                <a:latin typeface="標楷體"/>
                <a:ea typeface="標楷體"/>
              </a:rPr>
              <a:t>觀察一下，</a:t>
            </a:r>
            <a:br>
              <a:rPr sz="3200"/>
            </a:br>
            <a:r>
              <a:rPr b="1" lang="zh-TW" sz="3200" spc="-1" strike="noStrike">
                <a:solidFill>
                  <a:srgbClr val="330066"/>
                </a:solidFill>
                <a:latin typeface="標楷體"/>
                <a:ea typeface="標楷體"/>
              </a:rPr>
              <a:t>自己有沒有哪些部分和以前不一樣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生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情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認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行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學習單</a:t>
            </a:r>
            <a:r>
              <a:rPr b="0" lang="en-US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Aft>
                <a:spcPts val="1599"/>
              </a:spcAft>
              <a:buClr>
                <a:srgbClr val="59595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595959"/>
                </a:solidFill>
                <a:latin typeface="標楷體"/>
                <a:ea typeface="標楷體"/>
              </a:rPr>
              <a:t>這些都是經歷重大災難後，很正常的反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0000"/>
                </a:solidFill>
                <a:latin typeface="Arial"/>
                <a:ea typeface="標楷體"/>
              </a:rPr>
              <a:t>創傷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後</a:t>
            </a:r>
            <a:r>
              <a:rPr b="1" lang="zh-TW" sz="4000" spc="-1" strike="noStrike">
                <a:solidFill>
                  <a:srgbClr val="330066"/>
                </a:solidFill>
                <a:latin typeface="Arial"/>
                <a:ea typeface="標楷體"/>
              </a:rPr>
              <a:t>壓力反應</a:t>
            </a:r>
            <a:br>
              <a:rPr sz="40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Post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raumatic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Stress </a:t>
            </a:r>
            <a:r>
              <a:rPr b="1" lang="en-US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Reactions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, PTSR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330066"/>
                </a:solidFill>
                <a:latin typeface="Arial"/>
              </a:rPr>
              <a:t>（黃龍杰編譯）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面臨嚴重的死傷威脅</a:t>
            </a:r>
            <a:br>
              <a:rPr sz="3000"/>
            </a:b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經驗到強烈的害怕或無助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常有以下三類反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經驗重現 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“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觸景傷情”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逃避或麻痺 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“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退避三舍”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焦慮或過度</a:t>
            </a: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警覺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(“</a:t>
            </a: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神經緊繃”</a:t>
            </a:r>
            <a:r>
              <a:rPr b="1" lang="en-US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PE02567_"/>
          <p:cNvPicPr/>
          <p:nvPr/>
        </p:nvPicPr>
        <p:blipFill>
          <a:blip r:embed="rId1"/>
          <a:stretch/>
        </p:blipFill>
        <p:spPr>
          <a:xfrm>
            <a:off x="6588000" y="2492280"/>
            <a:ext cx="15987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8T14:10:03Z</dcterms:created>
  <dc:creator>YT</dc:creator>
  <dc:description/>
  <dc:language>en-US</dc:language>
  <cp:lastModifiedBy>user</cp:lastModifiedBy>
  <dcterms:modified xsi:type="dcterms:W3CDTF">2016-02-13T02:06:4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